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735C-7C06-4EC7-88B4-B7A593668D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905B-3896-4C3A-B513-EA894232F2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CBA5-FFF5-4B42-9E40-83FBF6D451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4959-56FF-4921-BAF3-314F3548BF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6392-A597-4F9A-A599-A68C6A0DE9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2109-D2B5-4DE4-8CB3-1BF4C0E849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0342-8871-44A4-8A95-43BFE18EBE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DF5C-DE59-4633-9F2A-5E07100D66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FDF0-7F39-474F-99FC-9FE2C178E5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629B-8190-4CF7-A5EE-393BDC21A1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B723-39FC-4059-874B-CD2E68A082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2173-CBD5-476D-BC7C-D96CC306F7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3C90-77F2-4F0B-A8C2-470CA927C1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17C6-0E2F-46BF-A4B6-3D37D5DF2C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5AF2-0E51-4A4D-9D8A-D4555BF59F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3CE5-2BCB-4491-B3AD-313FFEBDF4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09EA-D81C-4B5D-9C52-2E9C43182E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6FFE-79E4-4702-9654-A80CCEFE67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F322-4275-4A89-936A-1338820752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DEE8-080A-4182-97AA-E218759D8C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210A-D7BC-4731-AAE2-51F3A60BC4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7C55-92FA-4FB0-9C8B-102BD42155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7DF8-ECF3-4A2D-AE7D-902F6EC3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6C7B-2011-40D3-AC6A-B17FE8F1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6E60-5FB7-407A-BE5F-8D2143DA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1DE0-AF45-4824-BCB6-8C251282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6EFB-1D31-4A30-81DF-2D924183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E62-5282-4457-81BD-B957E05E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D9CE-1B7C-450B-95C9-83633D4C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74A9-8BAF-4FB7-8A8E-7F2D930E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4B5D-6816-4EAE-B286-5F36C74E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033F-2F82-47FD-97CC-03099313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62E8-DF50-40EA-AADB-B4D13258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EEDB-5B47-4378-A2E8-FD5CD66B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CE26-5D10-4D21-8B34-F8F56E8C9B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idos.ru/journal/2005/1212.htm" TargetMode="External"/><Relationship Id="rId2" Type="http://schemas.openxmlformats.org/officeDocument/2006/relationships/hyperlink" Target="http://festival.1september.ru/articles/574903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9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нравственных установок учащихся на уроках филологического цикл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bfbf"/>
                </a:solidFill>
                <a:latin typeface="Arial"/>
              </a:rPr>
              <a:t>Токранов Николай Валерьеви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bfbf"/>
                </a:solidFill>
                <a:latin typeface="Arial"/>
              </a:rPr>
              <a:t>учитель русского языка и литературы МБОУ «Средняя школа №111» Советского района г.Каз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CF3F-AB96-4D9E-A9F3-D30E039020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Organization Chart 7"/>
          <p:cNvGrpSpPr/>
          <p:nvPr/>
        </p:nvGrpSpPr>
        <p:grpSpPr>
          <a:xfrm>
            <a:off x="0" y="98280"/>
            <a:ext cx="9143640" cy="6606720"/>
            <a:chOff x="0" y="98280"/>
            <a:chExt cx="9143640" cy="6606720"/>
          </a:xfrm>
        </p:grpSpPr>
        <p:cxnSp>
          <p:nvCxnSpPr>
            <p:cNvPr id="79" name="_s2052"/>
            <p:cNvCxnSpPr>
              <a:stCxn id="80" idx="1"/>
              <a:endCxn id="81" idx="2"/>
            </p:cNvCxnSpPr>
            <p:nvPr/>
          </p:nvCxnSpPr>
          <p:spPr>
            <a:xfrm rot="10800000">
              <a:off x="6681240" y="3873600"/>
              <a:ext cx="352080" cy="235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2053"/>
            <p:cNvCxnSpPr>
              <a:stCxn id="83" idx="1"/>
              <a:endCxn id="81" idx="2"/>
            </p:cNvCxnSpPr>
            <p:nvPr/>
          </p:nvCxnSpPr>
          <p:spPr>
            <a:xfrm rot="10800000">
              <a:off x="668124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2054"/>
            <p:cNvCxnSpPr>
              <a:stCxn id="85" idx="1"/>
              <a:endCxn id="86" idx="2"/>
            </p:cNvCxnSpPr>
            <p:nvPr/>
          </p:nvCxnSpPr>
          <p:spPr>
            <a:xfrm rot="10800000">
              <a:off x="3867480" y="3873600"/>
              <a:ext cx="352080" cy="235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2055"/>
            <p:cNvCxnSpPr>
              <a:stCxn id="88" idx="1"/>
              <a:endCxn id="86" idx="2"/>
            </p:cNvCxnSpPr>
            <p:nvPr/>
          </p:nvCxnSpPr>
          <p:spPr>
            <a:xfrm rot="10800000">
              <a:off x="386748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2056"/>
            <p:cNvCxnSpPr>
              <a:stCxn id="90" idx="1"/>
              <a:endCxn id="91" idx="2"/>
            </p:cNvCxnSpPr>
            <p:nvPr/>
          </p:nvCxnSpPr>
          <p:spPr>
            <a:xfrm rot="10800000">
              <a:off x="105408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2057"/>
            <p:cNvCxnSpPr>
              <a:stCxn id="81" idx="0"/>
              <a:endCxn id="93" idx="2"/>
            </p:cNvCxnSpPr>
            <p:nvPr/>
          </p:nvCxnSpPr>
          <p:spPr>
            <a:xfrm flipV="1">
              <a:off x="6681960" y="2457360"/>
              <a:ext cx="2880" cy="472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2058"/>
            <p:cNvCxnSpPr>
              <a:stCxn id="86" idx="0"/>
              <a:endCxn id="95" idx="2"/>
            </p:cNvCxnSpPr>
            <p:nvPr/>
          </p:nvCxnSpPr>
          <p:spPr>
            <a:xfrm flipV="1" rot="16200000">
              <a:off x="2928600" y="1989720"/>
              <a:ext cx="472320" cy="1407240"/>
            </a:xfrm>
            <a:prstGeom prst="bentConnector3">
              <a:avLst>
                <a:gd name="adj1" fmla="val 261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2059"/>
            <p:cNvCxnSpPr>
              <a:stCxn id="91" idx="0"/>
              <a:endCxn id="95" idx="2"/>
            </p:cNvCxnSpPr>
            <p:nvPr/>
          </p:nvCxnSpPr>
          <p:spPr>
            <a:xfrm flipH="1" flipV="1" rot="5400000">
              <a:off x="1521720" y="1989720"/>
              <a:ext cx="472320" cy="1407240"/>
            </a:xfrm>
            <a:prstGeom prst="bentConnector3">
              <a:avLst>
                <a:gd name="adj1" fmla="val 261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2060"/>
            <p:cNvCxnSpPr>
              <a:stCxn id="93" idx="0"/>
              <a:endCxn id="98" idx="2"/>
            </p:cNvCxnSpPr>
            <p:nvPr/>
          </p:nvCxnSpPr>
          <p:spPr>
            <a:xfrm flipV="1" rot="16200000">
              <a:off x="5390280" y="222120"/>
              <a:ext cx="472320" cy="2110680"/>
            </a:xfrm>
            <a:prstGeom prst="bentConnector3">
              <a:avLst>
                <a:gd name="adj1" fmla="val 262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2061"/>
            <p:cNvCxnSpPr>
              <a:stCxn id="95" idx="0"/>
              <a:endCxn id="98" idx="2"/>
            </p:cNvCxnSpPr>
            <p:nvPr/>
          </p:nvCxnSpPr>
          <p:spPr>
            <a:xfrm flipH="1" flipV="1" rot="5400000">
              <a:off x="3280320" y="222120"/>
              <a:ext cx="472320" cy="2110680"/>
            </a:xfrm>
            <a:prstGeom prst="bentConnector3">
              <a:avLst>
                <a:gd name="adj1" fmla="val 262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2062"/>
            <p:cNvSpPr/>
            <p:nvPr/>
          </p:nvSpPr>
          <p:spPr>
            <a:xfrm>
              <a:off x="3516840" y="982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Читательск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рамот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63"/>
            <p:cNvSpPr/>
            <p:nvPr/>
          </p:nvSpPr>
          <p:spPr>
            <a:xfrm>
              <a:off x="1406520" y="151380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пора на тек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64"/>
            <p:cNvSpPr/>
            <p:nvPr/>
          </p:nvSpPr>
          <p:spPr>
            <a:xfrm>
              <a:off x="5626800" y="151380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пора н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нетекстово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н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2065"/>
            <p:cNvSpPr/>
            <p:nvPr/>
          </p:nvSpPr>
          <p:spPr>
            <a:xfrm>
              <a:off x="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йти и извл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66"/>
            <p:cNvSpPr/>
            <p:nvPr/>
          </p:nvSpPr>
          <p:spPr>
            <a:xfrm>
              <a:off x="281340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нтегрирова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нтерпретиров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067"/>
            <p:cNvSpPr/>
            <p:nvPr/>
          </p:nvSpPr>
          <p:spPr>
            <a:xfrm>
              <a:off x="562680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 оцени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сообщение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68"/>
            <p:cNvSpPr/>
            <p:nvPr/>
          </p:nvSpPr>
          <p:spPr>
            <a:xfrm>
              <a:off x="1406520" y="434556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звл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69"/>
            <p:cNvSpPr/>
            <p:nvPr/>
          </p:nvSpPr>
          <p:spPr>
            <a:xfrm>
              <a:off x="4219920" y="4345560"/>
              <a:ext cx="2109960" cy="9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формирова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щее понима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екс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70"/>
            <p:cNvSpPr/>
            <p:nvPr/>
          </p:nvSpPr>
          <p:spPr>
            <a:xfrm>
              <a:off x="4219920" y="5761440"/>
              <a:ext cx="2109960" cy="9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олковать тек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71"/>
            <p:cNvSpPr/>
            <p:nvPr/>
          </p:nvSpPr>
          <p:spPr>
            <a:xfrm>
              <a:off x="7033680" y="434556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ценить содержа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ие текс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072"/>
            <p:cNvSpPr/>
            <p:nvPr/>
          </p:nvSpPr>
          <p:spPr>
            <a:xfrm>
              <a:off x="7033680" y="576144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ценить форм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екст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способов самостоятельного анализа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Вопросы анке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1. Составляю план                       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2. Выписываю сложные места                                        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3. Запоминаю весь текст или его части                         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4. Разбираю сложные места при помощи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взрослых или дополнительной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5. Читаю текст несколько раз                                         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6. Составляю таблицу или схему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7. Легко подбираю примеры к      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предложенному тек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8. Легко пересказываю текст учебника                           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своими сло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Репрезентативная выборка составила 50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2f2f2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E573-FB11-4E8B-B040-CBEF24F4B58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иагностическая карта уровней восприятия текста Ф.Абрамова «О чем плачут лошади»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учащихся 7-го класса (по Н.Д.Молдавской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905120"/>
          <a:ext cx="8305920" cy="4227480"/>
        </p:xfrm>
        <a:graphic>
          <a:graphicData uri="http://schemas.openxmlformats.org/drawingml/2006/table">
            <a:tbl>
              <a:tblPr/>
              <a:tblGrid>
                <a:gridCol w="1703520"/>
                <a:gridCol w="2011320"/>
                <a:gridCol w="2293920"/>
                <a:gridCol w="2297160"/>
              </a:tblGrid>
              <a:tr h="335412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тографи-ческое  вос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сюжетно-событийной осно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основе осмысления композиционных связей без понимания образа ав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композиционной основе с ограниченным пониманием образа ав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336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9658-9EFD-4DD5-8932-E9240E10BA4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8600" y="24444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Диагностика уровня усвоения учащимися 7-го класса содержания нравственных понятий в ходе анализа текста  Ф.Абрамова «О чем плачут лошади» (по Павловой И.И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1600200"/>
          <a:ext cx="8153280" cy="4595760"/>
        </p:xfrm>
        <a:graphic>
          <a:graphicData uri="http://schemas.openxmlformats.org/drawingml/2006/table">
            <a:tbl>
              <a:tblPr/>
              <a:tblGrid>
                <a:gridCol w="2271600"/>
                <a:gridCol w="1604880"/>
                <a:gridCol w="1470240"/>
                <a:gridCol w="1434960"/>
                <a:gridCol w="1371600"/>
              </a:tblGrid>
              <a:tr h="731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яемое по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вильное 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глубо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оним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триот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ернационализ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лектив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удолюб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бежд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жест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4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ро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6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ви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ветств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ум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циональное достоин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с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6265-86A5-44FF-B1AE-E17D99A41A3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ческий инструмент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ид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вар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 с тек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речи (устной и письмен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Формы работы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седа (репродуктивная и эвристическ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сп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следован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ение в виртуальном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45BF-821C-4801-A3D5-3FA22F905BF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ческий инструмент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хнологии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развития критического мышления через чтение (способность ставить новые вопросы, вырабатывать разнообразные аргументы, принимать независимые продуманные реше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поэтапного формирования умений уч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формирования «вдумчивого читателя» (инсерт, рафт, «толстые» и «тонкие» вопросы, чтение с пометами, класт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СО, Г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проблем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ейс-стади 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846E-485F-49D8-BA3C-D2BC09182E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ластер «Образная система в повести А.И.Куприна «Олес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1676520" y="1828800"/>
            <a:ext cx="14475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ллиген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533520" y="2590920"/>
            <a:ext cx="14475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реш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762120" y="3886200"/>
            <a:ext cx="16002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способ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 самопожертвов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5715000" y="1752480"/>
            <a:ext cx="16002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 самоотверж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юб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7010280" y="2590920"/>
            <a:ext cx="12956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7162920" y="40384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стот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е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2286000" y="495288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в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5029200" y="4876920"/>
            <a:ext cx="1828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мира прир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590920" y="3200400"/>
            <a:ext cx="15238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в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моф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4876920" y="3276720"/>
            <a:ext cx="1371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3581280" y="609588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т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2"/>
          <p:cNvSpPr/>
          <p:nvPr/>
        </p:nvSpPr>
        <p:spPr>
          <a:xfrm flipH="1" flipV="1">
            <a:off x="2590920" y="27432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3"/>
          <p:cNvSpPr/>
          <p:nvPr/>
        </p:nvSpPr>
        <p:spPr>
          <a:xfrm flipH="1" flipV="1">
            <a:off x="1828440" y="335232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4"/>
          <p:cNvSpPr/>
          <p:nvPr/>
        </p:nvSpPr>
        <p:spPr>
          <a:xfrm flipH="1">
            <a:off x="2209320" y="39625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5"/>
          <p:cNvSpPr/>
          <p:nvPr/>
        </p:nvSpPr>
        <p:spPr>
          <a:xfrm>
            <a:off x="297180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6"/>
          <p:cNvSpPr/>
          <p:nvPr/>
        </p:nvSpPr>
        <p:spPr>
          <a:xfrm flipV="1">
            <a:off x="5791320" y="25905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7"/>
          <p:cNvSpPr/>
          <p:nvPr/>
        </p:nvSpPr>
        <p:spPr>
          <a:xfrm flipV="1">
            <a:off x="6172200" y="3352320"/>
            <a:ext cx="9907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8"/>
          <p:cNvSpPr/>
          <p:nvPr/>
        </p:nvSpPr>
        <p:spPr>
          <a:xfrm>
            <a:off x="6248520" y="411480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601992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048120" y="58672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4"/>
          <p:cNvSpPr/>
          <p:nvPr/>
        </p:nvSpPr>
        <p:spPr>
          <a:xfrm flipV="1">
            <a:off x="5410080" y="5790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горитм формирования навыка «вдумчивого»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а главная мысль абза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ите ключевые слова и словосочетания в данном отрыв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связана главная мысль данного абзаца с содержанием предыдущего абза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 чем предположительно пойдет речь в следующем абзаце?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F9AF-B938-44B4-9E7D-6495DA56CDD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Object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6988320" cy="4775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межуточная диагно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6"/>
          <p:cNvGraphicFramePr/>
          <p:nvPr/>
        </p:nvGraphicFramePr>
        <p:xfrm>
          <a:off x="4495680" y="914400"/>
          <a:ext cx="4586400" cy="32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914400"/>
                    <a:ext cx="4586400" cy="32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BBBF-24C3-4E4E-AE0D-623F6BFFD5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228600" y="2362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928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Рисунок 4" descr=""/>
          <p:cNvPicPr/>
          <p:nvPr/>
        </p:nvPicPr>
        <p:blipFill>
          <a:blip r:embed="rId1"/>
          <a:srcRect l="30436" t="0" r="22135" b="0"/>
          <a:stretch/>
        </p:blipFill>
        <p:spPr>
          <a:xfrm>
            <a:off x="60948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туальность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деральный государственный стандарт основного общего образования по русскому языку и литературе определяет главными целями изучения предметов формирование духовно развитой личности, обладающей гуманистическим мировоззрением, чувством патриотизма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Методологической основой разработки и реализации федерального государственного образовательного стандарта общего образования является концепция духовно-нравственного развития и воспитания личности гражданина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79CC-2CAE-4DD8-B642-6BDC6110F58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тературно-музыкальная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удия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17 кабине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сские народные пе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сский роман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ворчество бардов -шестидеся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ходные пе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ременные рок-исполнител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Arial"/>
              </a:rPr>
              <a:t>Жизнь, судьба, эпох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После уроков2"/>
          <p:cNvPicPr/>
          <p:nvPr/>
        </p:nvPicPr>
        <p:blipFill>
          <a:blip r:embed="rId1"/>
          <a:stretch/>
        </p:blipFill>
        <p:spPr>
          <a:xfrm>
            <a:off x="6362640" y="121932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После уроков3"/>
          <p:cNvPicPr/>
          <p:nvPr/>
        </p:nvPicPr>
        <p:blipFill>
          <a:blip r:embed="rId2"/>
          <a:stretch/>
        </p:blipFill>
        <p:spPr>
          <a:xfrm>
            <a:off x="5105520" y="2971800"/>
            <a:ext cx="2590560" cy="1941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шкид3"/>
          <p:cNvPicPr/>
          <p:nvPr/>
        </p:nvPicPr>
        <p:blipFill>
          <a:blip r:embed="rId3"/>
          <a:stretch/>
        </p:blipFill>
        <p:spPr>
          <a:xfrm>
            <a:off x="6248520" y="4648320"/>
            <a:ext cx="259056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межуточная диагнос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атриотизм для меня - понятие двойственное. С одной стороны, в нём много общественного, с другой, что-то личное, сво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ыть патриотом не значит везде и всюду хвалить свою страну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Достоинство – понятие обширное. Нужно быть достойным своей семьи и своей страны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Толерантность – это не просто эффектное слово. Это работа на каждый день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едеральный государственный образовательный стандарт основного общего образования /Министерство образования и науки РФ.- М.: Просвещение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ундаментальное ядро содержания общего образования /Под ред. В.В.Козлова, А .М. Кондакова .- М.: Просвещение, 20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Хуторской А.В. Технология проектирования ключевых и предметных компетенций [Электронный ресурс] // Режим доступ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idos.ru/journal/2005/1212.htm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урьянова А.В. Компетентностный подход в образовании [Электронный ресурс] // Режим доступ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estival.1september.ru/articles/574903/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левко Г.К. Современные образовательные технологии. Учебное пособие. М.: Народное образование, 1998, 25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.Мередит, Ч.Темпл, Д.Стил, «Воспитание  вдумчивых  читателей»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.О.Загашева «Заметки на полях. Пример занятия, направленного на развитие критического мышления учащихся на основе стратегии «Условные значки» ( «Библиотека в школе», 2004, №18, с. 10-13)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каткин М.Н. Проблемы современной дидактики. М. Педагогика 198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хмутов М.И. Организация проблемного обучения М. Педагогика 197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5902-C4DF-4B4E-B66E-F37921E57D2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з научно-методической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учно-методической литературе (А.В. Хуторской, В.В.Краевский, А.В.Гурьянова, И.А.Зимняя),  несмотря на наличие нескольких  подходов, приоритетными опреде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нностно-смыслов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щекульту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бно-познав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муник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о-труд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етенции личностного самосовершен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04F9-255B-4D02-979C-22B7E044110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 и задачи педагоги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ирование ценностно-смысловых, нравственных установок школьников в образовательном пространстве в  предметной области «Русский язык и литерату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 программно-методического сопровождения предметной об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уктуризация ценностных установок в соответствии с возрастными особенностями уча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ление тезауруса нравственных понятий  для введения в учебное  поле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явление эффективных педагогических техник работы с учебным текстом с целью актуализации в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 сформированности нравственных установок 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CB03-C090-4C2F-9E8E-45D09A52C74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дметные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вести к усвоению и осознанию основных нравственных пон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вести к пониманию нравственных проблем, поднятых в русской и зарубежной литера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ь навыки критического мыш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ь навыки принятия коллективных и самостоятельных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FDCB-8653-4C65-87AC-3189484B39C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водная диагно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седы с учащимися в урочное и внеурочное вре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блю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ос роди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кет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 литературных предпочтений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 творческих работ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анирование аккаунтов в социальных сет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4028"/>
          <p:cNvPicPr/>
          <p:nvPr/>
        </p:nvPicPr>
        <p:blipFill>
          <a:blip r:embed="rId1"/>
          <a:stretch/>
        </p:blipFill>
        <p:spPr>
          <a:xfrm>
            <a:off x="6108840" y="4286160"/>
            <a:ext cx="2340000" cy="3510000"/>
          </a:xfrm>
          <a:prstGeom prst="rect">
            <a:avLst/>
          </a:prstGeom>
          <a:ln w="0">
            <a:noFill/>
          </a:ln>
        </p:spPr>
      </p:pic>
      <p:sp>
        <p:nvSpPr>
          <p:cNvPr id="6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BA3B-2EF8-4C0E-937C-A9D5B04D574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разец диагно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bbe0e3"/>
                </a:solidFill>
                <a:latin typeface="Arial"/>
              </a:rPr>
              <a:t>Анкетирование</a:t>
            </a: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Какую бы тему ты выбрал для работы над домашним сочинен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чести в повести А.С. Пушкина «Капитанская доч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ческая эпоха в повести А.С. Пушкина «Капитанская доч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свободы в поэме М.Ю.Лермонтова «Мцыр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вод: дети выбирают конкретную тему, не подразумевающую проявления собственной позиции  и критичности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9BBA-8852-4FC0-BC98-2358F34E8A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0" y="1065240"/>
          <a:ext cx="8326440" cy="53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5240"/>
                    <a:ext cx="8326440" cy="53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A8D3-5FB1-4AFF-8CD2-FB98756D774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609480" y="990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ие эмоциональной 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чностный смысл изучаемого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ый эмоциональный фон учебных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ди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пер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чувств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1007-0EB7-44AE-B55E-7F4BD47B46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7:40:06Z</dcterms:created>
  <dc:creator>Николай</dc:creator>
  <dc:description/>
  <dc:language>en-US</dc:language>
  <cp:lastModifiedBy>user</cp:lastModifiedBy>
  <dcterms:modified xsi:type="dcterms:W3CDTF">2012-09-25T04:36:20Z</dcterms:modified>
  <cp:revision>1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